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A2730-0373-495A-8B2B-9B458BAA2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F9A4-A812-43D1-BEE2-28AA46C0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BB3F7-02ED-4786-8E6E-D92E6A950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3F1FC-F480-4371-8CE2-BE09A523B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E94FF-4EA7-4628-A6BF-3932E7A14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4323-7F63-458B-827A-C101D4B02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E6FE-3CD2-4ED7-BA8B-4BC5A89E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0DCF-5263-4A0E-8871-9D3BB55D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88893-3809-4495-B53A-09479003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72AD-6F41-45EC-B1AE-7430BCD8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3DBC-5BAC-416E-829A-2FB656DF8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839E-8E5D-489E-A0AC-CFBB12AEB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8DB1-C325-4CBB-92BB-0CCF8B883D9A}"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How To Lear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paration Phase – Getting Star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teac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nct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iend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list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lea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d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per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qui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 in clas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i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also use analogies with students to explain the roles of teacher and students in the learning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guide, facilitate, present materials clearly, answer questions, model and provide some practice opportunities, but the teacher cannot learn the language for students or even make students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ust decide themselves th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ant to learn, a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need to take initiative for seeking opportunities for learning, e.g. a soccer team or a theatrical p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Reflectio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rner-centred classroom requires students’ awareness of their learning proce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students to reflect on the components involved in language acquisition so they realize what they need to do to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time when you were learning a new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ll some of the learning activities that you found help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find most difficult about learning a new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f-Reflections on Language Learning</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How do you like to learn a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do you like be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do you like lea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How is learning a language is similar to and different from learning in other sub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ersonal language goal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ucial step toward a learner-centred classroom is getting students involved in learning by having them set language goals for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setting is a strategy that needs to be taught to stud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can be either long- or short-te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term goals are used as enabling steps toward long-term goa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 students’ involvement by increasing the stake they have in the learning proc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students the opportunity to establish their own goals, in addition to or in collaboration with those set by the instructional progra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students to reflect their reasons for learning a Second Language (SL), which may in turn lead to increased motiv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ng the learner-centred classroom</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is an environment that creates and fosters independent students who ar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ware of their learning process &am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le to take control of their learn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must initially be created by the teacher and then accepted by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8288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paration phase is the time to lay the foundation or groundwork for creating a learner-centred classroom that is ready for strategies i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hase needs to embedded in the language instructional curriculum so that students see discussions about strategies and thought processes as a natural part of regular class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occur automatically, but rather must be worked at so that all participants support the environment and are supported by the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whose learning abilities and strategies are acknowledged and encouraged will embrace strategies instruction as a way to further their own independence as active thin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ware are you of your own learning processes or strate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what conditions do you “learn” most successfu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Learning Responsibiliti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ly, teachers shouldered much of the responsibilities for learning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a learner-centred classroom, teachers and students shar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role – model &amp; facilit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role – active participants who are ultimately responsible for their ow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need a clear understanding of class expectations from the beginning in order for the learner-centred classroom to be success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room contracts and the use of learning anologies are two examples of how to start building a learner’s expectations toward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lassroom contract consists of an agreement between teacher and students or students and students regarding how each will contribute to and behave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s are most useful if students provide the input on the agreement with guidance from the teac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remember your best and favourite tea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qualities made them good teac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characterize a good learn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15T07:33:44Z</dcterms:modified>
  <cp:revision>3</cp:revision>
  <dc:subject/>
  <dc:title>Learning How To Learn</dc:title>
</cp:coreProperties>
</file>